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CC6-440F-4A98-BF67-62CE7054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188-AE7D-4FB9-921F-2C3D0C9F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06C-273B-4631-AAA1-A21D8D32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AF41-4FDD-4035-9036-3B87E493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B54-74AF-4137-9E09-BF44CEB9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AF8-A75F-47C2-8465-BB62147D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262-186D-48F0-B594-B36BD6E5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3962-0135-405E-AB9E-F0C3B338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F3B-E230-41B9-ADF2-D0F693EA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7D0-F6D5-4EE1-8E9B-421803C3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01A7-1E1C-4B3D-9E3A-5FDD72F0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9E9-9493-4CC5-BEF4-19F71772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714C-5B2F-4336-936E-3D9D2F59D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rela@terra.com.br" TargetMode="External"/><Relationship Id="rId2" Type="http://schemas.openxmlformats.org/officeDocument/2006/relationships/hyperlink" Target="mailto:rela@terra.com.br" TargetMode="External"/><Relationship Id="rId3" Type="http://schemas.openxmlformats.org/officeDocument/2006/relationships/hyperlink" Target="mailto:ednaldo.mesquita@mma.gov.br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43200" y="1863720"/>
            <a:ext cx="3733920" cy="15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723960" y="2079720"/>
          <a:ext cx="110484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960" y="2079720"/>
                    <a:ext cx="11048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0" y="4343400"/>
            <a:ext cx="9144000" cy="149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Verdana"/>
              </a:rPr>
              <a:t>Painel: Atividades do CNRH e suas Câmaras Técn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Verdana"/>
              </a:rPr>
              <a:t>XVI Simpósio Brasileiro de Recursos Hídr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Verdana"/>
              </a:rPr>
              <a:t>22/11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Verdana"/>
              </a:rPr>
              <a:t>Decio Michellis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365960" y="2192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41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de 02 de julho de 2004  - Estabelece as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rioridade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para aplicação dos recursos provenientes da cobrança pelo uso de recursos hídricos, para o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exercício de 2005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44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de 02 de julho de 2004  - Define os valores e os critérios de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cobrança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pelo uso de recursos hídricos na Bacia Hidrográfica do Rio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araíba do Sul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aplicáveis ao usuários do setor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mineração de areia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no leito dos 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48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de 21 de março de 2005  - Estabelece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critérios gerais para a cobrança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pelo uso dos recursos hídr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71800" y="685800"/>
            <a:ext cx="61722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Técnico-Institucional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</a:rPr>
              <a:t>(Com participação direta e indireta da CTC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49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de 21 de março de 2005 - Estabelece as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rioridade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para aplicação dos recursos provenientes da cobrança pelo uso de recursos hídricos, para o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exercício de 2006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e dá outras providê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50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de 18 de julho de 2005  - Aprovar os mecanismos e critérios para a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regularização de débito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consolidados referentes à cobrança pelo uso de recursos hídricos de domínio da União na Bacia Hidrográfica do Rio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araíba do Sul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71800" y="685800"/>
            <a:ext cx="61722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Técnico-Institucional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</a:rPr>
              <a:t>(Com participação direta e indireta da CTC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Mo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30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29 de outubro de 2004 - Manifest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discordânci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com relação às críticas feitas no Relatório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"O Estado Real das Águas no Brasil 2003-2004"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(Sinopse) ao modelo de gestão de recursos hídricos preconizado na Lei n° 9.433, de 1997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Mo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27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02 de julho de 2004 -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Recomenda ações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ecorrentes das determinações d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Resolução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CNRH n°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35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1° de dezembro de 200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Mo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26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26 de março de 2004 - Solicit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rovidências relativas ao não contingenciamento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os recursos oriundos da cobrança pelo uso da águ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Mo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20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26 de junho de 2003 - Recomenda a adoção d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medidas par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o tratamento d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receit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provenient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da cobranç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pelo uso da águ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71800" y="685800"/>
            <a:ext cx="61722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Técnico-Institucional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</a:rPr>
              <a:t>(Com participação direta e indireta da CTC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"MINUTA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Manual de Apoio aos Parlamentares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 sobre os Programas do  Ministério do Meio Ambiente na Gestão dos Recursos Hídricos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Desenvolvimento de Programa Institucional 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"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Gestão Estratégica CTCOB 2005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Monitoramento do Contingenciamento de Recursos "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Criação do GTAAC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 - "Grupo de Trabalho de Acompanhamento para Aplicação dos Recursos da Cobrança Pelo Uso dos Recursos Hídricos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971800" y="685800"/>
            <a:ext cx="61722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Técnico-Institucional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</a:rPr>
              <a:t>(Com participação direta e indireta da CTC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Sistema de Gestão de Recursos Hídricos  do Ceará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 - Documento de Referência - SRH/CE" - Agosto/200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Clipping (matérias divulgadas sobre "cobrança"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 após a aprovação das Resoluções CNRH nºs 48 e 49, em 21/03/05)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O </a:t>
            </a: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Projeto de Lei nº. 1616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Projetos de Lei apensados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 ao PL nº. 1616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Projetos de Lei em Tramitação no Congresso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 Nacional Relacionados à Gestão de Recursos Hídricos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GTAAC - "Relatório de Atividades 2005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971800" y="685800"/>
            <a:ext cx="617220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Publicações Técnicas Relatórios Técn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"A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evolução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 do processo da implementação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da cobrança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 pelo uso de recursos hídricos no Brasil em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2 e 2003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Nota Síntese da Oficina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 "A cobrança pelo uso da água - fluxos de arrecadação e aplicação dos recursos" -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Brasília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/DF - março/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Relatório da Oficina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 "Pacto Federativo e a Convergência da Cobrança pelo uso dos Recursos Hídricos" -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Rio de Janeiro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/RJ - maio de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971800" y="685800"/>
            <a:ext cx="617220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Publicações Técnicas Estudos Específ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"A Cobrança pelo Uso da Água e a Compensação Financeira no Setor Hidrelétrico." -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Belo Horizonte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/MG - agosto de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"A cobrança pelo uso da água - fluxos de arrecadação e aplicação dos recursos" -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Brasília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/DF - março de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"Pacto Federativo e a Convergência da Cobrança pelo uso dos Recursos Hídricos" -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Rio de Janeiro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/RJ - maio de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71800" y="533520"/>
            <a:ext cx="617220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Difusão de Metodologias, Tecnologias, Produtos e Processos (</a:t>
            </a:r>
            <a:r>
              <a:rPr b="1" i="1" lang="en-US" sz="2600" spc="-1" strike="noStrike">
                <a:solidFill>
                  <a:srgbClr val="ff0066"/>
                </a:solidFill>
                <a:latin typeface="Verdana"/>
              </a:rPr>
              <a:t>Workshops</a:t>
            </a: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1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rioridade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da Aplicação de Recur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2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Cartilha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de cobrança (Terminolog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3 Termo de Referência para elaboração do relatório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Marc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4 Nota técnica de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Integração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dos Instrumentos de G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5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Indicadore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 Acompanhamento da  Implantação da Cob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6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Cobrança das hidrelétrica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compensação financeira, versus cobrança pelo uso da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7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rocedimentos Fluxos Critério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e Metodologia de Cob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8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Fundo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971800" y="533520"/>
            <a:ext cx="617220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Desenvolv. de Metodologias, Tecnologias, Produtos e Processos (</a:t>
            </a:r>
            <a:r>
              <a:rPr b="1" i="1" lang="en-US" sz="2600" spc="-1" strike="noStrike">
                <a:solidFill>
                  <a:srgbClr val="ff0066"/>
                </a:solidFill>
                <a:latin typeface="Verdana"/>
              </a:rPr>
              <a:t>GT´s</a:t>
            </a: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GT-9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Convergênci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a Cobrança pelos Recursos Hídricos nos es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GT-10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Adequação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a forma d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Resoluç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GT-11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Acompanhamento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a implementação da cobrança na Bacia do rio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araíba do S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GT-12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GTAAC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- "Grupo de Trabalho de Acompanhamento para Aplicação dos Recursos da Cobrança Pelo Uso dos Recursos Hídricos" (Grupo Tricamerata: CTCOB, CTIL e CTPNRH, com a coordenação dos trabalhos sob a coordenação da CTCOB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GT-13 Cobrança Pelo Uso Dos Recursos Hídricos Frente Às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Especificidades Regionai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GT-14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Metodologia e Critério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para Formulação da Cobranç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971800" y="533520"/>
            <a:ext cx="617220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Desenvolv. de Metodologias, Tecnologias, Produtos e Processos (</a:t>
            </a:r>
            <a:r>
              <a:rPr b="1" i="1" lang="en-US" sz="2600" spc="-1" strike="noStrike">
                <a:solidFill>
                  <a:srgbClr val="ff0066"/>
                </a:solidFill>
                <a:latin typeface="Verdana"/>
              </a:rPr>
              <a:t>GT´s</a:t>
            </a: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43200" y="1863720"/>
            <a:ext cx="3733920" cy="15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723960" y="2079720"/>
          <a:ext cx="110484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960" y="2079720"/>
                    <a:ext cx="11048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0" y="3962520"/>
            <a:ext cx="9144000" cy="2399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Verdana"/>
              </a:rPr>
              <a:t>Desafios &amp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Verdana"/>
              </a:rPr>
              <a:t>Oportunidad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7365960" y="2192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3200" y="1863720"/>
            <a:ext cx="3733920" cy="15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723960" y="2079720"/>
          <a:ext cx="110484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960" y="2079720"/>
                    <a:ext cx="11048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3962520"/>
            <a:ext cx="9144000" cy="2399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COBRANÇ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O que é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7365960" y="2192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2880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Estabelecimento d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indicadore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Monitoramento das aplicaçõe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dos recursos da cobrança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Recomendação d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L ou PEC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que vis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solucionar os problema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referentes aos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trâmites administrativo-financeiro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dos recursos oriundos da cobrança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Identificação das bacia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que realmente necessitam de cobrança a partir de sua viabilidade de implantaçã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Identificar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formas mais simples de cobrança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que poderão ser aperfeiçoadas no futur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Folder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explicativo apresentando 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missão e os objetivo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da CTCOB e estabelecimento de um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ação política integrada a ser coordenada pelo CNRH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Pacto Federativo e a Cobrança Frente Às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Especificidades Regiona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971800" y="898560"/>
            <a:ext cx="61722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8000"/>
                </a:solidFill>
                <a:latin typeface="Verdana"/>
              </a:rPr>
              <a:t>Desafios &amp; Oportunida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3505320"/>
            <a:ext cx="7772400" cy="32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Presidente:</a:t>
            </a: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 Decio Michellis Jun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decio.michellis@gruporede.</a:t>
            </a:r>
            <a:r>
              <a:rPr b="0" lang="pt-B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om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Fone: (11) 3066 14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Relator: </a:t>
            </a: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Ednaldo Mesquita Carval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ednaldo.mesquita@mma.gov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Fones: (61) 4009 1809 ou 4009 1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743200" y="1143000"/>
            <a:ext cx="3733920" cy="1565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82880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O art. 19 da Lei no 9.433, de 8 de janeiro de 1997, institui a cobrança pelo uso da água com o objetivo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reconhecê-la como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bem dotado de valor econômico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dar ao usuário uma indicação de seu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real valor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incentivar a racionalização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do seu 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obter recursos financeiros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para o financiamento dos programas e intervenções, contemplados nos planos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7600" y="914400"/>
            <a:ext cx="50292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COBRANÇA: O que é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O art. 20 estabelece que serão cobrados os usos sujeitos a outorga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derivação ou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captação</a:t>
            </a: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 de águ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extração de água de aqüífero subterrâneo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lançamento</a:t>
            </a: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 em corpo de água de esgotos e resíduos líquidos, com o fim de sua diluição, transporte ou disposição final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aproveitamento dos potenciais hidrelétrico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outros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usos que alterem o regime, a quantidade ou a qualidade da água</a:t>
            </a: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 existente em um corpo de águ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0400" y="914400"/>
            <a:ext cx="59436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COBRANÇA: Quem paga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3200" y="1863720"/>
            <a:ext cx="3733920" cy="15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723960" y="2079720"/>
          <a:ext cx="110484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960" y="2079720"/>
                    <a:ext cx="11048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3962520"/>
            <a:ext cx="9144000" cy="2399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O que faz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CTCOB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365960" y="2192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por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critérios gerais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para a cobrança pelo uso de recursos hídric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nalisar e sugerir, no âmbito das competências do CNRH,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diretrizes complementares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para a implementação e aplicação da cobrança pelo uso de recursos hídric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por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diretrizes e ações conjuntas para a integração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e otimização de procedimentos entre as instituições responsáveis pela cobrança pelo uso de recursos hídric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00400" y="762120"/>
            <a:ext cx="594360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COMPETÊNCIAS                    </a:t>
            </a:r>
            <a:r>
              <a:rPr b="1" i="1" lang="en-US" sz="2000" spc="-1" strike="noStrike">
                <a:solidFill>
                  <a:srgbClr val="3333cc"/>
                </a:solidFill>
                <a:latin typeface="Verdana"/>
              </a:rPr>
              <a:t>Res. CNRH Nº 21 de 14/03/02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1337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analisar proposta de cobrança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apresentada pelos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Comitês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de Bacias Hidrográfic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avaliar as experiências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em cursos, ou em implementações, dos processos de cobrança pelo uso dos recursos hídricos, considerando procedimentos adotados e resultados obtid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 competências constantes do Regimento Interno do CNRH e outras que vierem a ser delegadas pelo seu Plená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00400" y="762120"/>
            <a:ext cx="594360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COMPETÊNCIAS                    </a:t>
            </a:r>
            <a:r>
              <a:rPr b="1" i="1" lang="en-US" sz="2000" spc="-1" strike="noStrike">
                <a:solidFill>
                  <a:srgbClr val="3333cc"/>
                </a:solidFill>
                <a:latin typeface="Verdana"/>
              </a:rPr>
              <a:t>Res. CNRH Nº 21 de 14/03/02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743200" y="1863720"/>
            <a:ext cx="3733920" cy="15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723960" y="2079720"/>
          <a:ext cx="110484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960" y="2079720"/>
                    <a:ext cx="11048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0" y="3962520"/>
            <a:ext cx="9144000" cy="2399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Balanço 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Atividad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7365960" y="2192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27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29 de novembro de 2002  - Define os valores e os critérios d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cobranç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pelo uso de recursos hídricos na Bacia Hidrográfica do Rio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araíba do Sul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35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01 de dezembro de 2003 - Estabelece as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rioridades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para aplicação dos recursos oriundos da cobrança pelo uso de recursos hídricos, para o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exercício de 2004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38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26 de março de 2004 - Delegar competência à Associação Pró-Gestão das Águas da Bacia Hidrográfica do Rio Paraíba do Sul para o exercício de funções e atividades inerentes à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Agência de Águ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a Bacia Hidrográfica do Rio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araíba do Sul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971800" y="685800"/>
            <a:ext cx="61722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Técnico-Institucional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</a:rPr>
              <a:t>(Com participação direta e indireta da CTC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3:43:45Z</dcterms:created>
  <dc:creator>INVESTCO</dc:creator>
  <dc:description/>
  <dc:language>en-US</dc:language>
  <cp:lastModifiedBy>VPE</cp:lastModifiedBy>
  <cp:lastPrinted>2002-06-27T19:42:28Z</cp:lastPrinted>
  <dcterms:modified xsi:type="dcterms:W3CDTF">2005-11-20T22:02:27Z</dcterms:modified>
  <cp:revision>164</cp:revision>
  <dc:subject/>
  <dc:title>Apresentação do PowerPoint</dc:title>
</cp:coreProperties>
</file>